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5E6-A096-423B-AA4D-AD4DFCAE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47-BC1E-47F5-B8B1-15124273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B3E-E9D3-4856-BD8B-559FBEA0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2DB-56F1-46E1-B50D-A3BAF2BD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5C9-D106-4B2F-935F-24E8DC37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3D2-28C2-4E82-AC94-7135245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51E-CAE0-4319-A997-C813694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B12-2838-4D96-B1E9-84FA80A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760-8285-4675-AB45-0042CE7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0B3-FDE1-4F8E-A4BE-A1C351C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63A-4370-4B3F-A405-4AC3457B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6F2-B173-43EA-88C9-6A3D6FE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882-8F0F-42AA-909A-8D57A9C6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ion – the DETAILED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as a group FILMED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INDIVIDUALLY uploaded onto your wikispace including visual stimuli  (images, final posters/mags clips from trailer) that is specific to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&amp;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ach fina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xamples of real media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 detail how you conform or subvert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er  - link to your trai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xamples – link to real trai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re conventions ( remember the sheet from start of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product conforms to conventions- actually identify the conventions you use of trailers as well as conventions of the film genre (look at repetoire of  ele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al package – how effective is it all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look at how distributors market to different audiences through different posters/mag content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ould include a real example of a film package doing this in the re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ach individual in your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presented as a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o your target audienc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images of your audience mood boards and your brainstorm audienc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your questionnair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ew quotes of audience feedback from seeing your tra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hotoshop, paintshop pro, CS4, premiere, final cut pro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, online polls, you tube, imd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– powerpoint, camera to film, voice recor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JAlois</cp:lastModifiedBy>
  <dcterms:modified xsi:type="dcterms:W3CDTF">2010-03-26T12:26:08Z</dcterms:modified>
  <cp:revision>3</cp:revision>
  <dc:subject/>
  <dc:title>Advanced Portfolio</dc:title>
</cp:coreProperties>
</file>